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46368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47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0620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7692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7860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3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98960" indent="-4629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8960" indent="-4629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7860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3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98960" indent="-4629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8960" indent="-4629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464840" cy="147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The Electoral Colle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812772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e8ccc"/>
                </a:solidFill>
                <a:latin typeface="Gill Sans"/>
              </a:rPr>
              <a:t>How does the electoral college influence a candidate’s campaign strategy?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focus on “battleground states” where polls show the race is clos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gnore states where polls show one candidate is very popular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MOST cases less effort to woo voters in small population stat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SOME cases focus on larger population stat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What are the key battleground states this year?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212840" y="2602080"/>
            <a:ext cx="100062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218960" y="2031480"/>
            <a:ext cx="1046484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lvl="1" marL="110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538</a:t>
            </a:r>
            <a:r>
              <a:rPr b="0" lang="en-US" sz="7400" spc="-1" strike="noStrike">
                <a:solidFill>
                  <a:srgbClr val="14996d"/>
                </a:solidFill>
                <a:latin typeface="Gill Sans"/>
              </a:rPr>
              <a:t> 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  <a:p>
            <a:pPr lvl="1" marL="110520"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14996d"/>
                </a:solidFill>
                <a:latin typeface="Gill Sans"/>
              </a:rPr>
              <a:t>   </a:t>
            </a:r>
            <a:r>
              <a:rPr b="0" lang="en-US" sz="4600" spc="-1" strike="noStrike">
                <a:solidFill>
                  <a:srgbClr val="b01713"/>
                </a:solidFill>
                <a:latin typeface="Gill Sans"/>
              </a:rPr>
              <a:t>435</a:t>
            </a: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 </a:t>
            </a:r>
            <a:r>
              <a:rPr b="0" lang="en-US" sz="3800" spc="-1" strike="noStrike">
                <a:solidFill>
                  <a:srgbClr val="b01713"/>
                </a:solidFill>
                <a:latin typeface="Gill Sans"/>
              </a:rPr>
              <a:t>members in House of Representativ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10520"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+ </a:t>
            </a:r>
            <a:r>
              <a:rPr b="0" lang="en-US" sz="4600" spc="-1" strike="noStrike">
                <a:solidFill>
                  <a:srgbClr val="b01713"/>
                </a:solidFill>
                <a:latin typeface="Gill Sans"/>
              </a:rPr>
              <a:t>100</a:t>
            </a: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 </a:t>
            </a:r>
            <a:r>
              <a:rPr b="0" lang="en-US" sz="4200" spc="-1" strike="noStrike">
                <a:solidFill>
                  <a:srgbClr val="b01713"/>
                </a:solidFill>
                <a:latin typeface="Gill Sans"/>
              </a:rPr>
              <a:t>Senators</a:t>
            </a: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 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  <a:p>
            <a:pPr lvl="1" marL="110520"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+   </a:t>
            </a:r>
            <a:r>
              <a:rPr b="0" lang="en-US" sz="2600" spc="-1" strike="noStrike">
                <a:solidFill>
                  <a:srgbClr val="b01713"/>
                </a:solidFill>
                <a:latin typeface="Gill Sans"/>
              </a:rPr>
              <a:t> </a:t>
            </a:r>
            <a:r>
              <a:rPr b="0" lang="en-US" sz="4600" spc="-1" strike="noStrike">
                <a:solidFill>
                  <a:srgbClr val="b01713"/>
                </a:solidFill>
                <a:latin typeface="Gill Sans"/>
              </a:rPr>
              <a:t>3</a:t>
            </a: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b01713"/>
                </a:solidFill>
                <a:latin typeface="Gill Sans"/>
              </a:rPr>
              <a:t>representatives from District of Columbia</a:t>
            </a:r>
            <a:r>
              <a:rPr b="0" lang="en-US" sz="7400" spc="-1" strike="noStrike">
                <a:solidFill>
                  <a:srgbClr val="14996d"/>
                </a:solidFill>
                <a:latin typeface="Gill Sans"/>
              </a:rPr>
              <a:t> 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8ccc"/>
                </a:solidFill>
                <a:latin typeface="Gill Sans"/>
              </a:rPr>
              <a:t>How many electoral votes must a candidate get to become president (the “magic number”)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10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333399"/>
                </a:solidFill>
                <a:latin typeface="Gill Sans"/>
              </a:rPr>
              <a:t>270</a:t>
            </a: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10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(</a:t>
            </a: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1 </a:t>
            </a: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more than half the total… 538/2 = 269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1089000" y="1058760"/>
            <a:ext cx="1140768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How many total electors are there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94920" y="-30492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e8ccc"/>
                </a:solidFill>
                <a:latin typeface="Gill Sans"/>
              </a:rPr>
              <a:t>How is the number of electors per state determined?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12191760" cy="96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find out how many electoral vote each state has, add the number of Representatives (Congressional Districts) in each state + number of Senators = electoral vo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6084720" cy="46483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8037360" y="2743200"/>
            <a:ext cx="4967280" cy="5257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28600" y="8077320"/>
            <a:ext cx="60958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 map of Maine’s Congressional distric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2 House of Rep. seats + 2 Senate seats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4 electoral vot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6350040" y="7772400"/>
            <a:ext cx="690876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 map of California’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ongressional distric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3 House of Rep. seats + 2 Senate seats =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5 electoral vot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1e8ccc"/>
                </a:solidFill>
                <a:latin typeface="Gill Sans"/>
              </a:rPr>
              <a:t>What is the smallest number of electors a state could have?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7520" y="2514240"/>
            <a:ext cx="167652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0" lang="en-US" sz="14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001000" cy="54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1e8ccc"/>
                </a:solidFill>
                <a:latin typeface="Gill Sans"/>
              </a:rPr>
              <a:t>How does the popular vote in each state influence that state’s electoral vote?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119635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48 states, whichever candidate wins the popular vote in the state wins </a:t>
            </a:r>
            <a:r>
              <a:rPr b="0" lang="en-US" sz="3800" spc="-1" strike="noStrike">
                <a:solidFill>
                  <a:srgbClr val="1e8ccc"/>
                </a:solidFill>
                <a:latin typeface="Gill Sans"/>
              </a:rPr>
              <a:t>ALL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of the state’s electoral votes.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295280" y="5029200"/>
            <a:ext cx="10072800" cy="1892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60240" y="7162920"/>
            <a:ext cx="1191276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85000"/>
          </a:bodyPr>
          <a:p>
            <a:pPr>
              <a:spcBef>
                <a:spcPts val="2401"/>
              </a:spcBef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his image shows that in the 2004 election, George Bush, the Republican candidate, won the majority of the popular vote in Nevada and got all 5 electoral votes from that state (names of electors in </a:t>
            </a:r>
            <a:r>
              <a:rPr b="0" lang="en-US" sz="2600" spc="-1" strike="noStrike">
                <a:solidFill>
                  <a:srgbClr val="d9798e"/>
                </a:solidFill>
                <a:latin typeface="Gill Sans"/>
                <a:ea typeface="ヒラギノ角ゴ ProN W3"/>
              </a:rPr>
              <a:t>pink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). In contrast, John Kerry, the Democratic candidate, won the majority of votes in New Hampshire and got all 4 of that state’s electoral votes (names of electors in </a:t>
            </a:r>
            <a:r>
              <a:rPr b="0" lang="en-US" sz="2600" spc="-1" strike="noStrike">
                <a:solidFill>
                  <a:srgbClr val="869fe3"/>
                </a:solidFill>
                <a:latin typeface="Gill Sans"/>
                <a:ea typeface="ヒラギノ角ゴ ProN W3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4876920"/>
            <a:ext cx="2438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3068280" y="449568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publican candidat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George Bus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5366160" y="449568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emocratic candidat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John Kerr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7764120" y="449568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hird Party Candidat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10173960" y="6934320"/>
            <a:ext cx="1826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Gill Sans"/>
              </a:rPr>
              <a:t>http://presidentelect.org/e2004.html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82020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8ccc"/>
                </a:solidFill>
                <a:latin typeface="Gill Sans"/>
              </a:rPr>
              <a:t>Which 2 states don’t use the winner-take-all system?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627372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755280" indent="-485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Maine &amp; Nebraska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755280" indent="-485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Maine and Nebraska use the District Method: 2 electoral votes go to the candidate who wins the most votes overall in the state, and the other electoral votes go to whichever candidate wins each congressional distric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7391520" y="5430960"/>
            <a:ext cx="5448240" cy="41702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427880" y="876240"/>
            <a:ext cx="53848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Arguments for the electoral colle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3288960"/>
            <a:ext cx="10464840" cy="519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ncourages a 2-party system which builds political sta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didates must get support from a variety of different regions to win enough electoral votes - builds un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oters in small states matter - candidates don’t just pay attention to large st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1e8ccc"/>
                </a:solidFill>
                <a:latin typeface="Gill Sans"/>
              </a:rPr>
              <a:t>Arguments against the electoral college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2768760"/>
            <a:ext cx="11125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t diminishes the principle of one person, one vot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 states where one candidate is very popular, voters may feel like there is little reason to vote- the outcome will not change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 candidate could win the popular vote nationwide but lose the electoral vote.  In that case the candidate who won more people’s votes does not become president.  This has happened 3 times in U.S. histor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Suggested Re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520" y="2768400"/>
            <a:ext cx="59310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8ccc"/>
                </a:solidFill>
                <a:latin typeface="Gill Sans"/>
              </a:rPr>
              <a:t>Reform Idea #1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• 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abolish the electoral college and use the nationwide popular vote instea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8ccc"/>
                </a:solidFill>
                <a:latin typeface="Gill Sans"/>
              </a:rPr>
              <a:t>Reform Idea #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lnSpc>
                <a:spcPct val="7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• 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have every state use the District Method (like Maine and Nebraska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4724280" cy="5019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705720" y="7559640"/>
            <a:ext cx="5486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California uses the winner take all system, so John Kerry won all 55 electoral votes in the 2004 election. If California had adopted Reform Idea #2, how many electoral college votes would John Kerry have won? </a:t>
            </a:r>
            <a:br>
              <a:rPr sz="2200"/>
            </a:br>
            <a:r>
              <a:rPr b="0" lang="en-US" sz="22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George Bush?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HS Teacher</cp:lastModifiedBy>
  <dcterms:modified xsi:type="dcterms:W3CDTF">2008-10-16T23:35:58Z</dcterms:modified>
  <cp:revision>21</cp:revision>
  <dc:subject/>
  <dc:title>The Electoral College</dc:title>
</cp:coreProperties>
</file>